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5A324B-C57D-427B-8207-29529FAD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2E9200-66E3-49F0-B7C3-719B5ACE0E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65C7EF-3190-43DE-8A30-BE5F09A854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569-1F5C-431B-B111-957AFD99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A91-BD8B-4E78-AE17-E8F6581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35B-D030-4192-893F-8FA4E538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157-5C88-4F8D-A480-8CE75512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B8E-3B63-406F-958C-0A569B56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970-9868-4278-A44B-EF747247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4465-79B4-4A86-8505-321C0721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9CAE-D3DF-46A7-9C36-16D24D5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E937-3D3C-4509-8FC1-59DC618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64F-A973-48EF-BEEF-27A1CAB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9225-CE64-47C0-9B7E-3DA8C07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782-6808-404B-A6F5-97A2497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7E8-8F02-490C-8C33-1809404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DDCD-E392-499E-AE2E-AEDEDF2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2697-5245-408E-BD78-5FD18BB9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39B-5221-4C9D-B0AC-1ED9503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CD9E-9476-42E3-80DC-1D239812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D62-E6A1-4B5E-88AE-1B72B10E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1ED-9565-45E4-B51B-D759F35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AAC-36B3-4316-AF00-5157058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074-08D7-495D-8B98-601FFE5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B1D-613A-4F83-BDAD-0E239D6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0B8-BB88-4081-A8BD-D8CA33D4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0CF-5DF5-44EE-BB69-AB244F1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02F-8374-4C40-A4E3-0D494A11EC5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7014-B804-4988-890C-2AAE671FA13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pbs.org/wgbh/aia/part4/4h1567b.htm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78880" cy="334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Francis Scott Key 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rites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r Spangled Banner</a:t>
            </a:r>
            <a:r>
              <a:rPr b="1" lang="ja-JP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ational Anthem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won at New Orlean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hent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Ended the war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oth sides didn</a:t>
            </a:r>
            <a:r>
              <a:rPr b="0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 think they could wi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howed the U.S. could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and up to the British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5" descr="287538w"/>
          <p:cNvPicPr/>
          <p:nvPr/>
        </p:nvPicPr>
        <p:blipFill>
          <a:blip r:embed="rId1"/>
          <a:stretch/>
        </p:blipFill>
        <p:spPr>
          <a:xfrm>
            <a:off x="6956280" y="533520"/>
            <a:ext cx="218772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327776w"/>
          <p:cNvPicPr/>
          <p:nvPr/>
        </p:nvPicPr>
        <p:blipFill>
          <a:blip r:embed="rId2"/>
          <a:stretch/>
        </p:blipFill>
        <p:spPr>
          <a:xfrm>
            <a:off x="5410080" y="4448160"/>
            <a:ext cx="320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**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Republic: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 Americans settle in Texa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Belongs to new country- Mexico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-Mexico wants Americans to learn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customs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*No more Americans: Texas is MAD!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Texas asks to leave Mexico and be on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heir own, Mexico says NO!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* Houston chosen as leader of Texas Army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5" descr="271724w"/>
          <p:cNvPicPr/>
          <p:nvPr/>
        </p:nvPicPr>
        <p:blipFill>
          <a:blip r:embed="rId2"/>
          <a:stretch/>
        </p:blipFill>
        <p:spPr>
          <a:xfrm>
            <a:off x="7391520" y="0"/>
            <a:ext cx="1641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-150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Battle for Independ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Mexico is winning at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lamo (1836)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ns stationed at Alamo; Mexico v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xas. Mexico breaks through and kills all Tex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Texans Recover- Capture Santa Anna (Dictato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5" descr="623524w"/>
          <p:cNvPicPr/>
          <p:nvPr/>
        </p:nvPicPr>
        <p:blipFill>
          <a:blip r:embed="rId1"/>
          <a:stretch/>
        </p:blipFill>
        <p:spPr>
          <a:xfrm>
            <a:off x="457200" y="2895480"/>
            <a:ext cx="3857760" cy="266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290670w"/>
          <p:cNvPicPr/>
          <p:nvPr/>
        </p:nvPicPr>
        <p:blipFill>
          <a:blip r:embed="rId2"/>
          <a:stretch/>
        </p:blipFill>
        <p:spPr>
          <a:xfrm>
            <a:off x="4572000" y="2819520"/>
            <a:ext cx="3857760" cy="2809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28600" y="56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ing approximately 189 men, the Texans fought off the Mexicans, who numbered around 3,000-4,000 troops, for 13 days until the Mexican Army finally overran the Alamo on March 6, 1836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5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24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1836- Texas is FREE- On their own!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Asks to join the U.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.S. says NO- North doesn’t like slaver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inally YES as slave state   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Annexed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to add in 1845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265783"/>
          <p:cNvPicPr/>
          <p:nvPr/>
        </p:nvPicPr>
        <p:blipFill>
          <a:blip r:embed="rId1"/>
          <a:stretch/>
        </p:blipFill>
        <p:spPr>
          <a:xfrm>
            <a:off x="2438280" y="321624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Rectangle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376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1. Mexico starts to welcome Americans into    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ts territories (New Mexico &amp;  California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2.U.S. Annexes (adds) Texas (Upset Mexico)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3. U.S.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Texas boarder at Rio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Grande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                                    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4.  Mexico thought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   boarder at  Nueces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River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Picture 5" descr="266400"/>
          <p:cNvPicPr/>
          <p:nvPr/>
        </p:nvPicPr>
        <p:blipFill>
          <a:blip r:embed="rId2"/>
          <a:stretch/>
        </p:blipFill>
        <p:spPr>
          <a:xfrm>
            <a:off x="0" y="3048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184320"/>
            <a:ext cx="8305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exico v. U.S.</a:t>
            </a:r>
            <a:endParaRPr b="0" lang="en-US" sz="4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Many Americans were against the war (Why?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U.S. Wins Easil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eaty of Guadalupe Hidalgo (1848)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nds War ($15 million) Mexico cedes (gave up) California &amp; all of Southwest gives Mexico mill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adsden Purchase-</a:t>
            </a:r>
            <a:r>
              <a:rPr b="1" lang="en-US" sz="3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($10 million) for S.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Arizona and Souther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New Mex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5" descr="266400"/>
          <p:cNvPicPr/>
          <p:nvPr/>
        </p:nvPicPr>
        <p:blipFill>
          <a:blip r:embed="rId1"/>
          <a:stretch/>
        </p:blipFill>
        <p:spPr>
          <a:xfrm>
            <a:off x="0" y="3726000"/>
            <a:ext cx="4419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378000" y="-12600"/>
            <a:ext cx="8235720" cy="823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Native Americ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resident Jackson wanted to open up the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land  from Georgia to Mississippi for farm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ian Removal Act of 1830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Passed by Congr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Ordered Indians 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give up lands East of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Mississippi to trad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for land in Oklaho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BAD LAND!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3" name="Picture 9" descr="266321"/>
          <p:cNvPicPr/>
          <p:nvPr/>
        </p:nvPicPr>
        <p:blipFill>
          <a:blip r:embed="rId2"/>
          <a:srcRect l="7111" t="15947" r="2370" b="9568"/>
          <a:stretch/>
        </p:blipFill>
        <p:spPr>
          <a:xfrm>
            <a:off x="0" y="3276720"/>
            <a:ext cx="4870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-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herokee Ref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herokee sue in Supreme Court to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top removal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Jackson ignores orde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1835- some Cherokee sign treaty but most of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7,000 do not agree and will not accept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2.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Trail of Tears: 1838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Trail from Georgia to Oklahoma. Many die during 800 mile march, treated bad by soldiers, hungry, cold, dise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Forced Out: Jackson Uses Military – Sends 7,000 troops in to force remov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08800" cy="114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8" name="Picture 5" descr="The Trail of Tea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e Trail of Tears, historical oil painting by Max D. Standley"/>
          <p:cNvPicPr/>
          <p:nvPr/>
        </p:nvPicPr>
        <p:blipFill>
          <a:blip r:embed="rId4"/>
          <a:stretch/>
        </p:blipFill>
        <p:spPr>
          <a:xfrm>
            <a:off x="3505320" y="297180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** Manifest Destiny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1840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– Belief that the U.S. and it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people had the right to 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olonize</a:t>
            </a:r>
            <a:r>
              <a:rPr b="1" lang="ja-JP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”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and use all territory from Atlantic to Pacific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Mountain Men: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Early explorers head into Louisian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Send stories and goods back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Led people to explore the Wes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8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Louisiana 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1.Purchased from France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  1803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-$15 Million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(Napoleon Sell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2.  Geographic Loc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*East- Mississippi River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5" descr="an illustration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Promise of rich land in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Oregon Trail- 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Rough trail, harsh conditions, not enough food, people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DIE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Both U.S. and Great Britain said they owned Oregon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U.S. adds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5,000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more people &amp; British don</a:t>
            </a:r>
            <a:r>
              <a:rPr b="1" lang="ja-JP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1846 agreement to set border at the </a:t>
            </a:r>
            <a:r>
              <a:rPr b="1" i="1" lang="en-US" sz="33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49th Parallel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Oregon, Washington, Idaho, Wyoming, Montana.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Picture 5" descr="291464"/>
          <p:cNvPicPr/>
          <p:nvPr/>
        </p:nvPicPr>
        <p:blipFill>
          <a:blip r:embed="rId2"/>
          <a:stretch/>
        </p:blipFill>
        <p:spPr>
          <a:xfrm>
            <a:off x="1676520" y="990720"/>
            <a:ext cx="5715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ALIFORNIA!!</a:t>
            </a:r>
            <a:endParaRPr b="0" lang="en-US" sz="4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After 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Guadalupe Hidalgo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1848): belongs to U.S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GOLD RUSH!!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- 1848/49  (49</a:t>
            </a:r>
            <a:r>
              <a:rPr b="1" lang="ja-JP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Gold found at Sutter</a:t>
            </a:r>
            <a:r>
              <a:rPr b="1" lang="ja-JP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’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 Mill 1848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00,000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people come between 1848-1849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oomtowns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: No Government /Rough Town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ecoming a State:  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1850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*</a:t>
            </a:r>
            <a:r>
              <a:rPr b="1" lang="en-US" sz="37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anned Slavery: </a:t>
            </a:r>
            <a:r>
              <a:rPr b="1" lang="en-US" sz="37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Created trouble in Congress!</a:t>
            </a:r>
            <a:endParaRPr b="0" lang="en-US" sz="3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4" name="Picture 5" descr="265717"/>
          <p:cNvPicPr/>
          <p:nvPr/>
        </p:nvPicPr>
        <p:blipFill>
          <a:blip r:embed="rId1"/>
          <a:stretch/>
        </p:blipFill>
        <p:spPr>
          <a:xfrm>
            <a:off x="380880" y="228600"/>
            <a:ext cx="8502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265769"/>
          <p:cNvPicPr/>
          <p:nvPr/>
        </p:nvPicPr>
        <p:blipFill>
          <a:blip r:embed="rId1"/>
          <a:stretch/>
        </p:blipFill>
        <p:spPr>
          <a:xfrm>
            <a:off x="304920" y="457200"/>
            <a:ext cx="8556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-18432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Book Antiqua"/>
              </a:rPr>
              <a:t>3.  Explora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              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Lewis &amp; Clark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Job:  Explore the new territory of Louisiana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a North West Passage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Find the true size of the territory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iscover Native Americans.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-Describe Natural Resources</a:t>
            </a:r>
            <a:endParaRPr b="0" lang="en-US" sz="31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*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Book Antiqua"/>
              </a:rPr>
              <a:t>* Sacagawea-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Indian Woman,  Hired to be guide,  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3300" spc="-1" strike="noStrike">
                <a:solidFill>
                  <a:srgbClr val="ffffff"/>
                </a:solidFill>
                <a:latin typeface="Book Antiqua"/>
              </a:rPr>
              <a:t>learned English</a:t>
            </a:r>
            <a:endParaRPr b="0" lang="en-US" sz="33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Sacajawea shows Lewis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&amp; Clark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rough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he Louisiana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urchas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5" descr="288021w"/>
          <p:cNvPicPr/>
          <p:nvPr/>
        </p:nvPicPr>
        <p:blipFill>
          <a:blip r:embed="rId2"/>
          <a:stretch/>
        </p:blipFill>
        <p:spPr>
          <a:xfrm>
            <a:off x="4191120" y="1676520"/>
            <a:ext cx="4952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63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Industrial Revolution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Creation of a factory system and use of  mechanical tools to improve life and produc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Cotton Gin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y Eli Whitney:1793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  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*  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Steam Boat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5" descr="288026w"/>
          <p:cNvPicPr/>
          <p:nvPr/>
        </p:nvPicPr>
        <p:blipFill>
          <a:blip r:embed="rId2"/>
          <a:stretch/>
        </p:blipFill>
        <p:spPr>
          <a:xfrm>
            <a:off x="6095880" y="4095720"/>
            <a:ext cx="3048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27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* New Land means they can move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se roads and the 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	</a:t>
            </a:r>
            <a:r>
              <a:rPr b="1" lang="en-US" sz="45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NEW RAILROAD!</a:t>
            </a:r>
            <a:endParaRPr b="0" lang="en-US" sz="4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Rectangle 2" descr=""/>
          <p:cNvPicPr/>
          <p:nvPr/>
        </p:nvPicPr>
        <p:blipFill>
          <a:blip r:embed="rId1"/>
          <a:stretch/>
        </p:blipFill>
        <p:spPr>
          <a:xfrm>
            <a:off x="835200" y="-55440"/>
            <a:ext cx="7930800" cy="884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Europe was in a war, and needed supplies from U.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eople in U.S. losing $$/ Supplies were cut of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British v. United States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help Native Americans to attack American settlemen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  <a:ea typeface="ＭＳ Ｐゴシック"/>
              </a:rPr>
              <a:t>War Hawks: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nted the U.S. to fight G.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( they like wa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British burn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Washington DC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5" descr="287517w"/>
          <p:cNvPicPr/>
          <p:nvPr/>
        </p:nvPicPr>
        <p:blipFill>
          <a:blip r:embed="rId2"/>
          <a:stretch/>
        </p:blipFill>
        <p:spPr>
          <a:xfrm>
            <a:off x="5486400" y="4800600"/>
            <a:ext cx="3048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1:55:44Z</dcterms:created>
  <dc:creator>CCSD</dc:creator>
  <dc:description/>
  <cp:keywords/>
  <dc:language>en-US</dc:language>
  <cp:lastModifiedBy>Mobile Student</cp:lastModifiedBy>
  <dcterms:modified xsi:type="dcterms:W3CDTF">2015-02-22T22:05:56Z</dcterms:modified>
  <cp:revision>92</cp:revision>
  <dc:subject/>
  <dc:title>Westward Expans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775751033</vt:lpwstr>
  </property>
</Properties>
</file>